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E44F-91F5-4EF3-8E3C-BC48184DC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7F20-ABDA-47D6-80B6-4271B0CC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AE57-59D8-4539-8EC4-A8A7457A3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2D50-A72A-452D-8AF6-FCEB5C4E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81BC-890A-43C9-B31D-3AD3EA33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89A7-7CE4-42B3-8DC8-DCA9215D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2764-421B-4EBB-A2F0-1C8E0E64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08E6-2CA1-4039-A832-A6E5F6E2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C481-8B22-4CDD-97A3-20BA32E7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CC5D-5487-445D-8BEF-9254E2C5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5BCE-53EF-40A3-A06E-9290D8F1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65D0-F994-471A-AA0B-1428A7F3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2E00-17A4-4353-9E8D-AAAEFFDF2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s always tougher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Wayne and Coll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ff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Present day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ussia was very strict but they gained their     fre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government told everyone what to do but now people can decide for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reedom can’t always help them because they may become unempl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226044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’s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ussia, there is a lot of pol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lution can have a bad effect not because it is bad already, but because it affects tourists and the econom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lution in Russia can affect tourists because tourists won’t want to come visit an area with unhealthy pol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lution can affect the economy because if tourists don’t want to come there is a big decrease in mon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0384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7:10:30Z</dcterms:created>
  <dc:creator> </dc:creator>
  <dc:description/>
  <dc:language>en-US</dc:language>
  <cp:lastModifiedBy> </cp:lastModifiedBy>
  <dcterms:modified xsi:type="dcterms:W3CDTF">2010-12-14T17:32:57Z</dcterms:modified>
  <cp:revision>2</cp:revision>
  <dc:subject/>
  <dc:title>Its always tougher in Russia</dc:title>
</cp:coreProperties>
</file>